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9.png" ContentType="image/png"/>
  <Override PartName="/ppt/media/image11.wmf" ContentType="image/x-wmf"/>
  <Override PartName="/ppt/media/image7.png" ContentType="image/png"/>
  <Override PartName="/ppt/media/image15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3.jpeg" ContentType="image/jpeg"/>
  <Override PartName="/ppt/media/image28.png" ContentType="image/png"/>
  <Override PartName="/ppt/media/image16.png" ContentType="image/png"/>
  <Override PartName="/ppt/media/image25.wmf" ContentType="image/x-wmf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29.png" ContentType="image/png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976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8036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976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91440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8036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8036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976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91440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91440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8036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8036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8036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976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976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976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91440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976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976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91440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378036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976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976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91440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378036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976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91440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78036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976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378036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976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91440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78036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378036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976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91440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91440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378036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378036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378036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976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976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91440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976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976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1440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8036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976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91440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8036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976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91440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8036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9144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8458200" y="0"/>
            <a:ext cx="685800" cy="506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304920" y="685800"/>
            <a:ext cx="8518320" cy="889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606096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62120" y="4210200"/>
            <a:ext cx="1657080" cy="1657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image" Target="../media/image5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320" y="53352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dentifying Configuration &amp; Customization Patterns using OCML &amp; BGML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371600" y="1827360"/>
            <a:ext cx="624852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vind S. Krish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re Turk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itute for Software Integr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stems (IS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arvindk, turkaye}@dre.vanderbilt.e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Vanderbilt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Nashville, TN 372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59436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Work supported by AFRL contract# F33615-03-C-4112 for DARPA PCES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124080" y="4684680"/>
            <a:ext cx="260028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"/>
          <p:cNvGraphicFramePr/>
          <p:nvPr/>
        </p:nvGraphicFramePr>
        <p:xfrm>
          <a:off x="5048280" y="4730760"/>
          <a:ext cx="3943440" cy="17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8280" y="4730760"/>
                    <a:ext cx="3943440" cy="17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3809880" y="1433520"/>
          <a:ext cx="4953240" cy="268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1433520"/>
                    <a:ext cx="4953240" cy="26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Resolving Config &amp; Planning Challenges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320" y="838080"/>
            <a:ext cx="3581280" cy="594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lving Challenge 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determine the configuration settings for the individual components to achieve the QoS required for this scenari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eing’s BasicSP 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Navigation Displ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displays GPS position up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GPS Compon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generates periodic position up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Airframe Compon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processes input from the GPS component and feeds to Navigation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Trigger Compon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generates periodic refresh ra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86200" y="914400"/>
            <a:ext cx="5029200" cy="61236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tep1: Model Component Interaction using BGML Paradig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5"/>
          <a:stretch/>
        </p:blipFill>
        <p:spPr>
          <a:xfrm>
            <a:off x="3886200" y="5398920"/>
            <a:ext cx="1295280" cy="8496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886200" y="4064040"/>
            <a:ext cx="5105520" cy="58068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2: Configure each Component associating the appropriate IDL interfa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"/>
          <p:cNvGraphicFramePr/>
          <p:nvPr/>
        </p:nvGraphicFramePr>
        <p:xfrm>
          <a:off x="4648320" y="1539720"/>
          <a:ext cx="4125960" cy="12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539720"/>
                    <a:ext cx="4125960" cy="12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odeling Avionics Scenario 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52280" y="923760"/>
            <a:ext cx="3353040" cy="58068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3: Associate Operations with the Componen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1219320" y="1600200"/>
            <a:ext cx="3047760" cy="16002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152280" y="1676520"/>
            <a:ext cx="1067040" cy="6951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4343400" y="923760"/>
            <a:ext cx="4648320" cy="58068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4: Associate QoS metrics to measure in the scen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48320" y="2844720"/>
            <a:ext cx="4267080" cy="3934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2680" indent="-112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GML Paradigm allows actual composition of the target interaction scenario, auto-generates benchmark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configuration option can then be tested to identify the configuration that maximizes the QoS for the scen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empirically refined configurations can be reused across applications that have similar/same application do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configurations are configuration patterns – Configuration and Customization (C&amp;C) patter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6320" y="2971800"/>
            <a:ext cx="4114800" cy="39441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oid start_time_probe (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f (!timer_coun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est_start = ACE_OS::gethrtime ()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art_timer_probe = ACE_OS::gethrtime ()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oid stop_time_probe (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nish_timer_probe = ACE_OS::gethrtime ()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story.sample (finish_timer_probe - start_timer_probe)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f (++ timer_count == niteration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est_end = ACE_OS::gethrtime ()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E_DEBUG ((LM_DEBUG, "test finished\n"))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E_Throughput_Stats::dump_throughput ("Total", gsf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est_end - test_start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ats.samples_count ())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GML Metrics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320" y="837720"/>
            <a:ext cx="40370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2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ode Generation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GML allows generation of ~ 80% of all the required files to enact the scenario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dentification of C&amp;C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component arrive at the configuration space i.e. all possible configuration parameters to tune Q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v Display component plays role of client with no requirements for concurr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each option permutation arrive at the option that optimizes QoS, e.g. latency  for the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of configuration options along with the values represents a reusable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onfiguratio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86200" y="760320"/>
          <a:ext cx="4722840" cy="17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760320"/>
                    <a:ext cx="4722840" cy="17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4037040" y="2514600"/>
          <a:ext cx="5030640" cy="127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7040" y="2514600"/>
                    <a:ext cx="5030640" cy="12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6019920" y="3801960"/>
          <a:ext cx="2895480" cy="2827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19920" y="3801960"/>
                    <a:ext cx="2895480" cy="28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76320" y="5511960"/>
            <a:ext cx="5638680" cy="9457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pure clients the following settings represents a reusable C&amp;C patter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{(ORBProfile = null), (ORBClientConnectionHandler = RW), (ORBTransportMuxStrategy = Exclusive), (ORBConnectStrategy = Reactive)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304920" y="838080"/>
          <a:ext cx="4038480" cy="335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838080"/>
                    <a:ext cx="4038480" cy="33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989280" y="66600"/>
            <a:ext cx="7378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Discovery &amp; Classification of C&amp;C patter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19720" y="838080"/>
            <a:ext cx="4570200" cy="5867640"/>
          </a:xfrm>
          <a:prstGeom prst="rect">
            <a:avLst/>
          </a:prstGeom>
          <a:solidFill>
            <a:srgbClr val="edede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2680" indent="-1126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o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ying C&amp;C patterns allows reusable best configurations to be readily applied to similar QoS requirements in various domai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cation hard as we need to explore the entire configuration space. These keep growing at a great pac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173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ads to configuration space explo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173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time to run tests for each combination for lack of resourc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olution </a:t>
            </a:r>
            <a:r>
              <a:rPr b="0" lang="en-US" sz="18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Distributed Continuous Quality Assurance (DCQ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mework for running tasks on user donated machines around the word, around the cloc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spare CPU cycles on user machines, like SETI@home pro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s identification and validation of C&amp;C patterns on range of hardware, OS and compiler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2280" y="4245120"/>
            <a:ext cx="40388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Model test-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Synthesize required configuration parameters using OC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Synthesize benchmarking code using     BG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Feed test code to Skoll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Run on varied platforms to measure QoS vari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Maintain database of results from which C&amp;C patterns can be identif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Downloading the Middleware &amp; Tools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657600" y="1828800"/>
            <a:ext cx="2124000" cy="15318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3895560" y="4775040"/>
            <a:ext cx="49514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2680" indent="-112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http://www.dre.vanderbilt.edu/cosm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14600" y="3352680"/>
            <a:ext cx="533412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2680" indent="-112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eta and Stable release can be accessed from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ttp://www.dre.vanderbilt.edu/Download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52280" y="1955880"/>
            <a:ext cx="2308320" cy="20286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1219320" y="4343400"/>
            <a:ext cx="2514600" cy="13460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6934320" y="1143000"/>
            <a:ext cx="1912680" cy="22399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147960" y="4089240"/>
            <a:ext cx="7994160" cy="459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  <a:ea typeface="Arial"/>
              </a:rPr>
              <a:t>OCML &amp; BGML are part of the CoSMIC MDM tool su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Arial"/>
              </a:rPr>
              <a:t>Context: Deployment &amp; Configuration Spec</a:t>
            </a:r>
            <a:endParaRPr b="1" lang="en-US" sz="29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4800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0000"/>
                </a:solidFill>
                <a:latin typeface="Arial"/>
                <a:ea typeface="宋体"/>
              </a:rPr>
              <a:t>Packag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188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bundling a suite of software binary modules and metadata representing application compon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0000"/>
                </a:solidFill>
                <a:latin typeface="Arial"/>
                <a:ea typeface="宋体"/>
              </a:rPr>
              <a:t>Instal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188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populating a repository with the packages required by the applic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0000"/>
                </a:solidFill>
                <a:latin typeface="Arial"/>
                <a:ea typeface="宋体"/>
              </a:rPr>
              <a:t>Config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188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configuring the packages with the appropriate parameters to satisfy the functional and systemic requirements of application without constraining to any  physical resourc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0000"/>
                </a:solidFill>
                <a:latin typeface="Arial"/>
                <a:ea typeface="宋体"/>
              </a:rPr>
              <a:t>Plan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188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making appropriate deployment decisions including identifying the entities, such as CPUs, of the target environment where the packages will be deploye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0000"/>
                </a:solidFill>
                <a:latin typeface="Arial"/>
                <a:ea typeface="宋体"/>
              </a:rPr>
              <a:t>Prepa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188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moving the binaries to the identified entities of the target environm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0000"/>
                </a:solidFill>
                <a:latin typeface="Arial"/>
                <a:ea typeface="宋体"/>
              </a:rPr>
              <a:t>Launc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188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triggering the installed binaries and bringing the application to a ready sta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0000"/>
                </a:solidFill>
                <a:latin typeface="Arial"/>
              </a:rPr>
              <a:t>Adap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188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untime reconfiguration &amp; resource management to maintain end-to-end Q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320" y="2438280"/>
            <a:ext cx="4724280" cy="1981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946760" y="914400"/>
          <a:ext cx="40449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46760" y="914400"/>
                    <a:ext cx="40449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Configuring QoS Enabled Middlewar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ous strategies in CIAO can be configured at initializatio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AO ORB is configured with service configuration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09520" y="2133720"/>
            <a:ext cx="4286160" cy="3800520"/>
          </a:xfrm>
          <a:prstGeom prst="rect">
            <a:avLst/>
          </a:prstGeom>
          <a:ln w="0">
            <a:noFill/>
          </a:ln>
        </p:spPr>
      </p:pic>
      <p:grpSp>
        <p:nvGrpSpPr>
          <p:cNvPr id="93" name=""/>
          <p:cNvGrpSpPr/>
          <p:nvPr/>
        </p:nvGrpSpPr>
        <p:grpSpPr>
          <a:xfrm>
            <a:off x="4495680" y="2336760"/>
            <a:ext cx="4647960" cy="3596760"/>
            <a:chOff x="4495680" y="2336760"/>
            <a:chExt cx="4647960" cy="3596760"/>
          </a:xfrm>
        </p:grpSpPr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95680" y="5612760"/>
              <a:ext cx="4647960" cy="320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5" name=""/>
            <p:cNvGrpSpPr/>
            <p:nvPr/>
          </p:nvGrpSpPr>
          <p:grpSpPr>
            <a:xfrm>
              <a:off x="4947120" y="2336760"/>
              <a:ext cx="3825720" cy="3099960"/>
              <a:chOff x="4947120" y="2336760"/>
              <a:chExt cx="3825720" cy="3099960"/>
            </a:xfrm>
          </p:grpSpPr>
          <p:pic>
            <p:nvPicPr>
              <p:cNvPr id="9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947120" y="2336760"/>
                <a:ext cx="3654360" cy="309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" name=""/>
              <p:cNvSpPr/>
              <p:nvPr/>
            </p:nvSpPr>
            <p:spPr>
              <a:xfrm flipH="1" flipV="1">
                <a:off x="5209920" y="3561840"/>
                <a:ext cx="250920" cy="332640"/>
              </a:xfrm>
              <a:prstGeom prst="uturnArrow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 flipV="1">
                <a:off x="5115600" y="4180680"/>
                <a:ext cx="250920" cy="332640"/>
              </a:xfrm>
              <a:prstGeom prst="uturnArrow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 flipV="1">
                <a:off x="7128720" y="4321440"/>
                <a:ext cx="249120" cy="329760"/>
              </a:xfrm>
              <a:prstGeom prst="uturnArrow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 flipV="1">
                <a:off x="7765920" y="4321440"/>
                <a:ext cx="249120" cy="329760"/>
              </a:xfrm>
              <a:prstGeom prst="uturnArrow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 flipV="1">
                <a:off x="7406280" y="3988800"/>
                <a:ext cx="249120" cy="332640"/>
              </a:xfrm>
              <a:prstGeom prst="uturnArrow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 flipV="1">
                <a:off x="8523720" y="3666600"/>
                <a:ext cx="249120" cy="333000"/>
              </a:xfrm>
              <a:prstGeom prst="uturnArrow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3" name=""/>
          <p:cNvSpPr/>
          <p:nvPr/>
        </p:nvSpPr>
        <p:spPr>
          <a:xfrm>
            <a:off x="5105520" y="5978520"/>
            <a:ext cx="1828800" cy="650880"/>
          </a:xfrm>
          <a:prstGeom prst="wedgeEllipseCallout">
            <a:avLst>
              <a:gd name="adj1" fmla="val 92361"/>
              <a:gd name="adj2" fmla="val -261217"/>
            </a:avLst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izab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o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Configuration and Customization Patterns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342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ral different ways to configure the underlying middle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342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ral domains have common characteristics. For 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2160" indent="-304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ionics Domain and Enterprise Applications might share applications that have similar QoS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92160" indent="-304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th might share similar concurrency, latency and jitter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342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we can codify these recurring configurations then these are patterns that can be reused across these domains for the same middleware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den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342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reduce the cost for identification of these patterns we have followed a three prong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2160" indent="-30492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Developed Configuration tools that allow end-users to model and generate semantically correct configuration o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92160" indent="-30492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Developed Empirical evaluation tools to benchmark and run experiments on components configured using the configuration o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92160" indent="-30492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Developed Distributed Continuous Quality Assurance techniques to iteratively run these configurations on varied hardware/OS/compiler platforms to identify recurring solutions to resolving QoS requirem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Re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342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patterns are represented as set of tuples {(x, value(x)} where x is the configuration option and value (x) is the configuration setting for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odel Based Solution </a:t>
            </a:r>
            <a:r>
              <a:rPr b="1" lang="en-US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OCML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5960" y="914400"/>
            <a:ext cx="4190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ed a domain-specific modeling language for TAO/CIAO calle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Options Configuration Modeling Language (OCML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sing G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provides a model of desired options &amp; their values e.g.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25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ddleware bus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25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urrency &amp; connection management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aint checker flags incompatible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thesizes XML descriptors for middleware 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the documentation for the middleware 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ine validation of the configur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0" t="0" r="12766" b="0"/>
          <a:stretch/>
        </p:blipFill>
        <p:spPr>
          <a:xfrm>
            <a:off x="4343400" y="914400"/>
            <a:ext cx="4389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OCML Workflow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ML is used 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225360"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Arial"/>
              </a:rPr>
              <a:t>Middleware develop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design the Configuration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225360"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Arial"/>
              </a:rPr>
              <a:t>Application Develop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configure the Middleware for a Specific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ML metamodel is platform indepen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ML models are platform spec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419720" y="1689120"/>
            <a:ext cx="4572000" cy="41832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572000" y="2743200"/>
            <a:ext cx="1295280" cy="12193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05520" y="1828800"/>
            <a:ext cx="3809880" cy="12193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3505320"/>
            <a:ext cx="3581280" cy="2367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238880" y="1600200"/>
            <a:ext cx="1752840" cy="1295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6248520" y="2743200"/>
            <a:ext cx="761760" cy="533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2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2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228600" y="762120"/>
            <a:ext cx="1600200" cy="5145120"/>
            <a:chOff x="228600" y="762120"/>
            <a:chExt cx="1600200" cy="5145120"/>
          </a:xfrm>
        </p:grpSpPr>
        <p:sp>
          <p:nvSpPr>
            <p:cNvPr id="118" name=""/>
            <p:cNvSpPr/>
            <p:nvPr/>
          </p:nvSpPr>
          <p:spPr>
            <a:xfrm>
              <a:off x="228600" y="762120"/>
              <a:ext cx="1600200" cy="51451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9" name=""/>
            <p:cNvGraphicFramePr/>
            <p:nvPr/>
          </p:nvGraphicFramePr>
          <p:xfrm>
            <a:off x="380880" y="1441440"/>
            <a:ext cx="1203480" cy="1149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880" y="1441440"/>
                      <a:ext cx="1203480" cy="114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1" name=""/>
            <p:cNvGraphicFramePr/>
            <p:nvPr/>
          </p:nvGraphicFramePr>
          <p:xfrm>
            <a:off x="380880" y="2852640"/>
            <a:ext cx="1290600" cy="1233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0880" y="2852640"/>
                      <a:ext cx="1290600" cy="123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3" name=""/>
            <p:cNvGraphicFramePr/>
            <p:nvPr/>
          </p:nvGraphicFramePr>
          <p:xfrm>
            <a:off x="380880" y="4459320"/>
            <a:ext cx="1290600" cy="1233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80880" y="4459320"/>
                      <a:ext cx="1290600" cy="1233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534600" y="762120"/>
              <a:ext cx="968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ig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ior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 Narrow"/>
              </a:rPr>
              <a:t>Configuration Aspect : Challenge #1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7"/>
          <a:stretch/>
        </p:blipFill>
        <p:spPr>
          <a:xfrm>
            <a:off x="5638680" y="3048120"/>
            <a:ext cx="3276720" cy="28256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057400" y="825480"/>
            <a:ext cx="259092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1: Users define the application QoS requirements such as pulse rate for the tim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05120" y="3048120"/>
            <a:ext cx="2590560" cy="26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2: Design model  transformers to synthesize platforms-specific configurations for achieving QoS.  Currently done with the OCML modeling paradigm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43200" y="2327400"/>
            <a:ext cx="304920" cy="568080"/>
          </a:xfrm>
          <a:prstGeom prst="downArrow">
            <a:avLst>
              <a:gd name="adj1" fmla="val 50000"/>
              <a:gd name="adj2" fmla="val 46576"/>
            </a:avLst>
          </a:prstGeom>
          <a:solidFill>
            <a:srgbClr val="800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00200" y="106668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800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8647400">
            <a:off x="4436280" y="2988000"/>
            <a:ext cx="880920" cy="304920"/>
          </a:xfrm>
          <a:prstGeom prst="rightArrow">
            <a:avLst>
              <a:gd name="adj1" fmla="val 50000"/>
              <a:gd name="adj2" fmla="val 72226"/>
            </a:avLst>
          </a:prstGeom>
          <a:solidFill>
            <a:srgbClr val="800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95680" y="3933720"/>
            <a:ext cx="609840" cy="304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800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8"/>
          <a:stretch/>
        </p:blipFill>
        <p:spPr>
          <a:xfrm>
            <a:off x="5105520" y="914400"/>
            <a:ext cx="4038480" cy="16178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514600" y="5791320"/>
            <a:ext cx="2895480" cy="838080"/>
          </a:xfrm>
          <a:prstGeom prst="wedgeRoundRectCallout">
            <a:avLst>
              <a:gd name="adj1" fmla="val 50217"/>
              <a:gd name="adj2" fmla="val -103217"/>
              <a:gd name="adj3" fmla="val 16667"/>
            </a:avLst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How do you ensure this configuration maximizes the Qo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lanning Aspect : Challenge #2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000080" y="1343160"/>
            <a:ext cx="7610040" cy="1247760"/>
            <a:chOff x="1000080" y="1343160"/>
            <a:chExt cx="7610040" cy="1247760"/>
          </a:xfrm>
        </p:grpSpPr>
        <p:grpSp>
          <p:nvGrpSpPr>
            <p:cNvPr id="138" name=""/>
            <p:cNvGrpSpPr/>
            <p:nvPr/>
          </p:nvGrpSpPr>
          <p:grpSpPr>
            <a:xfrm>
              <a:off x="2109600" y="1969920"/>
              <a:ext cx="511920" cy="214560"/>
              <a:chOff x="2109600" y="1969920"/>
              <a:chExt cx="511920" cy="214560"/>
            </a:xfrm>
          </p:grpSpPr>
          <p:sp>
            <p:nvSpPr>
              <p:cNvPr id="139" name=""/>
              <p:cNvSpPr/>
              <p:nvPr/>
            </p:nvSpPr>
            <p:spPr>
              <a:xfrm flipH="1">
                <a:off x="2213280" y="2077200"/>
                <a:ext cx="208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109600" y="2025720"/>
                <a:ext cx="102600" cy="102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388960" y="1969920"/>
                <a:ext cx="232560" cy="214560"/>
              </a:xfrm>
              <a:custGeom>
                <a:avLst/>
                <a:gdLst>
                  <a:gd name="textAreaLeft" fmla="*/ 0 w 232560"/>
                  <a:gd name="textAreaRight" fmla="*/ 232920 w 232560"/>
                  <a:gd name="textAreaTop" fmla="*/ 0 h 214560"/>
                  <a:gd name="textAreaBottom" fmla="*/ 214920 h 21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2595240" y="1969920"/>
              <a:ext cx="478800" cy="214560"/>
              <a:chOff x="2595240" y="1969920"/>
              <a:chExt cx="478800" cy="214560"/>
            </a:xfrm>
          </p:grpSpPr>
          <p:sp>
            <p:nvSpPr>
              <p:cNvPr id="143" name=""/>
              <p:cNvSpPr/>
              <p:nvPr/>
            </p:nvSpPr>
            <p:spPr>
              <a:xfrm flipH="1">
                <a:off x="2827080" y="2075760"/>
                <a:ext cx="246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595240" y="1969920"/>
                <a:ext cx="246960" cy="214560"/>
              </a:xfrm>
              <a:custGeom>
                <a:avLst/>
                <a:gdLst>
                  <a:gd name="textAreaLeft" fmla="*/ 0 w 246960"/>
                  <a:gd name="textAreaRight" fmla="*/ 246960 w 246960"/>
                  <a:gd name="textAreaTop" fmla="*/ 0 h 214560"/>
                  <a:gd name="textAreaBottom" fmla="*/ 214920 h 21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6359400" y="2046240"/>
              <a:ext cx="511920" cy="214200"/>
              <a:chOff x="6359400" y="2046240"/>
              <a:chExt cx="511920" cy="214200"/>
            </a:xfrm>
          </p:grpSpPr>
          <p:sp>
            <p:nvSpPr>
              <p:cNvPr id="146" name=""/>
              <p:cNvSpPr/>
              <p:nvPr/>
            </p:nvSpPr>
            <p:spPr>
              <a:xfrm flipH="1">
                <a:off x="6463080" y="2153520"/>
                <a:ext cx="208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359400" y="2102040"/>
                <a:ext cx="102600" cy="1022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638760" y="2046240"/>
                <a:ext cx="232560" cy="214200"/>
              </a:xfrm>
              <a:custGeom>
                <a:avLst/>
                <a:gdLst>
                  <a:gd name="textAreaLeft" fmla="*/ 0 w 232560"/>
                  <a:gd name="textAreaRight" fmla="*/ 232920 w 232560"/>
                  <a:gd name="textAreaTop" fmla="*/ 0 h 214200"/>
                  <a:gd name="textAreaBottom" fmla="*/ 214560 h 21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6845040" y="2046240"/>
              <a:ext cx="478800" cy="214200"/>
              <a:chOff x="6845040" y="2046240"/>
              <a:chExt cx="478800" cy="214200"/>
            </a:xfrm>
          </p:grpSpPr>
          <p:sp>
            <p:nvSpPr>
              <p:cNvPr id="150" name=""/>
              <p:cNvSpPr/>
              <p:nvPr/>
            </p:nvSpPr>
            <p:spPr>
              <a:xfrm flipH="1">
                <a:off x="7076880" y="2152080"/>
                <a:ext cx="246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45040" y="2046240"/>
                <a:ext cx="246960" cy="214200"/>
              </a:xfrm>
              <a:custGeom>
                <a:avLst/>
                <a:gdLst>
                  <a:gd name="textAreaLeft" fmla="*/ 0 w 246960"/>
                  <a:gd name="textAreaRight" fmla="*/ 246960 w 246960"/>
                  <a:gd name="textAreaTop" fmla="*/ 0 h 214200"/>
                  <a:gd name="textAreaBottom" fmla="*/ 214560 h 21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52" name=""/>
            <p:cNvGraphicFramePr/>
            <p:nvPr/>
          </p:nvGraphicFramePr>
          <p:xfrm>
            <a:off x="1000080" y="1357200"/>
            <a:ext cx="1203120" cy="1149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00080" y="1357200"/>
                      <a:ext cx="1203120" cy="114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4" name=""/>
            <p:cNvGraphicFramePr/>
            <p:nvPr/>
          </p:nvGraphicFramePr>
          <p:xfrm>
            <a:off x="2954160" y="1343160"/>
            <a:ext cx="1290240" cy="1233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54160" y="1343160"/>
                      <a:ext cx="1290240" cy="1233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6" name=""/>
            <p:cNvGraphicFramePr/>
            <p:nvPr/>
          </p:nvGraphicFramePr>
          <p:xfrm>
            <a:off x="7319880" y="1357200"/>
            <a:ext cx="1290240" cy="1233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319880" y="1357200"/>
                      <a:ext cx="1290240" cy="123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8" name=""/>
            <p:cNvGraphicFramePr/>
            <p:nvPr/>
          </p:nvGraphicFramePr>
          <p:xfrm>
            <a:off x="5114520" y="1357200"/>
            <a:ext cx="1290600" cy="1233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5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114520" y="1357200"/>
                      <a:ext cx="1290600" cy="123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60" name=""/>
            <p:cNvGrpSpPr/>
            <p:nvPr/>
          </p:nvGrpSpPr>
          <p:grpSpPr>
            <a:xfrm>
              <a:off x="4200120" y="2057400"/>
              <a:ext cx="512280" cy="214200"/>
              <a:chOff x="4200120" y="2057400"/>
              <a:chExt cx="512280" cy="214200"/>
            </a:xfrm>
          </p:grpSpPr>
          <p:sp>
            <p:nvSpPr>
              <p:cNvPr id="161" name=""/>
              <p:cNvSpPr/>
              <p:nvPr/>
            </p:nvSpPr>
            <p:spPr>
              <a:xfrm flipH="1">
                <a:off x="4303800" y="2164680"/>
                <a:ext cx="208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200120" y="2113200"/>
                <a:ext cx="102600" cy="1022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479840" y="2057400"/>
                <a:ext cx="232560" cy="214200"/>
              </a:xfrm>
              <a:custGeom>
                <a:avLst/>
                <a:gdLst>
                  <a:gd name="textAreaLeft" fmla="*/ 0 w 232560"/>
                  <a:gd name="textAreaRight" fmla="*/ 232920 w 232560"/>
                  <a:gd name="textAreaTop" fmla="*/ 0 h 214200"/>
                  <a:gd name="textAreaBottom" fmla="*/ 214560 h 21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686120" y="2057400"/>
              <a:ext cx="478800" cy="214200"/>
              <a:chOff x="4686120" y="2057400"/>
              <a:chExt cx="478800" cy="214200"/>
            </a:xfrm>
          </p:grpSpPr>
          <p:sp>
            <p:nvSpPr>
              <p:cNvPr id="165" name=""/>
              <p:cNvSpPr/>
              <p:nvPr/>
            </p:nvSpPr>
            <p:spPr>
              <a:xfrm flipH="1">
                <a:off x="4917960" y="2163240"/>
                <a:ext cx="246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686120" y="2057400"/>
                <a:ext cx="246960" cy="214200"/>
              </a:xfrm>
              <a:custGeom>
                <a:avLst/>
                <a:gdLst>
                  <a:gd name="textAreaLeft" fmla="*/ 0 w 246960"/>
                  <a:gd name="textAreaRight" fmla="*/ 246960 w 246960"/>
                  <a:gd name="textAreaTop" fmla="*/ 0 h 214200"/>
                  <a:gd name="textAreaBottom" fmla="*/ 214560 h 21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7" name=""/>
          <p:cNvGrpSpPr/>
          <p:nvPr/>
        </p:nvGrpSpPr>
        <p:grpSpPr>
          <a:xfrm>
            <a:off x="2846520" y="3340080"/>
            <a:ext cx="3553920" cy="1688760"/>
            <a:chOff x="2846520" y="3340080"/>
            <a:chExt cx="3553920" cy="1688760"/>
          </a:xfrm>
        </p:grpSpPr>
        <p:sp>
          <p:nvSpPr>
            <p:cNvPr id="168" name=""/>
            <p:cNvSpPr/>
            <p:nvPr/>
          </p:nvSpPr>
          <p:spPr>
            <a:xfrm>
              <a:off x="2846520" y="3340080"/>
              <a:ext cx="3553920" cy="1688760"/>
            </a:xfrm>
            <a:prstGeom prst="cloudCallout">
              <a:avLst>
                <a:gd name="adj1" fmla="val 64902"/>
                <a:gd name="adj2" fmla="val 22902"/>
              </a:avLst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istributed sys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58640" y="4417560"/>
              <a:ext cx="953640" cy="435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3921480" y="4611960"/>
              <a:ext cx="953640" cy="80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5052240" y="3871800"/>
              <a:ext cx="953640" cy="676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61000" y="3512160"/>
              <a:ext cx="953640" cy="12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981520" y="3347640"/>
              <a:ext cx="3163320" cy="1504440"/>
              <a:chOff x="2981520" y="3347640"/>
              <a:chExt cx="3163320" cy="1504440"/>
            </a:xfrm>
          </p:grpSpPr>
          <p:sp>
            <p:nvSpPr>
              <p:cNvPr id="174" name=""/>
              <p:cNvSpPr/>
              <p:nvPr/>
            </p:nvSpPr>
            <p:spPr>
              <a:xfrm>
                <a:off x="2981520" y="4307760"/>
                <a:ext cx="494640" cy="240480"/>
              </a:xfrm>
              <a:prstGeom prst="rect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616560" y="4611240"/>
                <a:ext cx="495360" cy="240840"/>
              </a:xfrm>
              <a:prstGeom prst="rect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760640" y="4417200"/>
                <a:ext cx="495360" cy="240480"/>
              </a:xfrm>
              <a:prstGeom prst="rect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650200" y="3639240"/>
                <a:ext cx="494640" cy="240840"/>
              </a:xfrm>
              <a:prstGeom prst="rect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379040" y="3347640"/>
                <a:ext cx="495360" cy="240840"/>
              </a:xfrm>
              <a:prstGeom prst="rect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9" name=""/>
          <p:cNvSpPr/>
          <p:nvPr/>
        </p:nvSpPr>
        <p:spPr>
          <a:xfrm>
            <a:off x="1600200" y="2506680"/>
            <a:ext cx="1558800" cy="191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3159000" y="2506680"/>
            <a:ext cx="457200" cy="1801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4686120" y="2514600"/>
            <a:ext cx="1104840" cy="825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5981400" y="2514600"/>
            <a:ext cx="2019240" cy="1219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38280" y="4800600"/>
            <a:ext cx="2181240" cy="1255680"/>
          </a:xfrm>
          <a:prstGeom prst="wedgeRoundRectCallout">
            <a:avLst>
              <a:gd name="adj1" fmla="val 105532"/>
              <a:gd name="adj2" fmla="val -96648"/>
              <a:gd name="adj3" fmla="val 16667"/>
            </a:avLst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How do you determine current resource allocation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67280" y="2774880"/>
            <a:ext cx="2971800" cy="1187640"/>
          </a:xfrm>
          <a:prstGeom prst="wedgeRoundRectCallout">
            <a:avLst>
              <a:gd name="adj1" fmla="val -50856"/>
              <a:gd name="adj2" fmla="val -108824"/>
              <a:gd name="adj3" fmla="val 16667"/>
            </a:avLst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How do you correlate QoS requirements of packages to resource nee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029200" y="5213520"/>
            <a:ext cx="2971800" cy="1187280"/>
          </a:xfrm>
          <a:prstGeom prst="wedgeRoundRectCallout">
            <a:avLst>
              <a:gd name="adj1" fmla="val -50856"/>
              <a:gd name="adj2" fmla="val -108824"/>
              <a:gd name="adj3" fmla="val 16667"/>
            </a:avLst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How do you ensure that the selected targets will deliver required Q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olution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–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BGML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320" y="990360"/>
            <a:ext cx="3962160" cy="5715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287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GML Moti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a model-driven tool-suite to empirically evaluate and refine configurations to maximize application Q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GML Work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-user composes the scenario in the BGML modeling paradig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iate QoS properties with this scenario, such as latency, throughput or ji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thesize the appropriate test code to run the experiment and measure the Q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ed-back metrics into models to verify if system meets appropriate QoS at desig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4495680" y="914400"/>
          <a:ext cx="4419720" cy="35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914400"/>
                    <a:ext cx="4419720" cy="35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4343400" y="4492800"/>
            <a:ext cx="4495680" cy="228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ool enables synthesis of all the scaffolding code required to set up, run, and tear-down the experimen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BGML tool it is possible to synthesize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chmark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nent Implementation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L and Component IDL fi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4T16:00:56Z</dcterms:created>
  <dc:creator>Aniruddha Gokhale</dc:creator>
  <dc:description/>
  <dc:language>en-US</dc:language>
  <cp:lastModifiedBy>Arvind S. Krishna</cp:lastModifiedBy>
  <dcterms:modified xsi:type="dcterms:W3CDTF">2004-04-20T22:59:42Z</dcterms:modified>
  <cp:revision>1726</cp:revision>
  <dc:subject/>
  <dc:title>Faculty recruitment talk</dc:title>
</cp:coreProperties>
</file>