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28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7.wmf" ContentType="image/x-wmf"/>
  <Override PartName="/ppt/media/image18.wmf" ContentType="image/x-wmf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88EB-C6EE-4312-B122-290BD8E6B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ude for Craig’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4BA-024C-44F3-80C6-71A7BA8D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EF3-D9A2-4DBB-B28B-E1A4164A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78B-9703-460D-AF75-F434F0AD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628-6583-4C50-B401-13DA6CC7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4FAC-A3E6-4F10-BDEA-C42E224F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E6B6-DE00-4D61-A121-69C81774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B0CB-2D2E-441C-B132-81B71475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BFD2-AA14-4DCF-A29D-A1290B5E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D7DE-0807-40E1-BD89-F1467DBB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8A42-CB69-4552-ACE5-15057432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DE1F-5E42-462F-91E8-FB6EB5B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D32-4AAC-4B8C-849F-1E409281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D561-193C-4EF0-A068-7519B999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61EE-6B14-4336-9AC3-C44BF48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2C70-3D75-420E-BB27-837849FE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FECF-D6EB-4652-A466-4C1C0387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34D0-D5C0-406E-B7F6-CC4A2AFF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252-862E-4B71-B178-3AEEB493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85F-09CB-4CD9-96E4-4869B92B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0FF-1421-436C-B0AC-16E7360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13A-B21E-4E20-8C99-59B54F59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ADE-FE61-4D8C-948B-3A3B13F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565-8D6C-4598-89C5-336B047F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F7B-EB45-4B7C-A58D-D6ECC18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6701-0B73-4331-BDC0-E2D6E9D7758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153280" y="304920"/>
            <a:ext cx="15264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D4A-0F99-4398-B0D9-933DFA3DDC8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mre.turkay@vanderbilt.edu" TargetMode="External"/><Relationship Id="rId2" Type="http://schemas.openxmlformats.org/officeDocument/2006/relationships/hyperlink" Target="mailto:emre.turkay@vanderbilt.edu" TargetMode="External"/><Relationship Id="rId3" Type="http://schemas.openxmlformats.org/officeDocument/2006/relationships/hyperlink" Target="mailto:emre.turkay@vanderbilt.edu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A -&gt; OCML &amp; BG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520" y="2895480"/>
            <a:ext cx="632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mre Turkay Arvind S. Krishn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emre.turkay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,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arvindk)@vanderbilt.ed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anderbilt Universi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ashville, T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52280" y="493380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858000" y="5065560"/>
            <a:ext cx="198108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49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ML Dependency Constraint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gical operato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nd, or, no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ssociations represented as connec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, range, selected, etc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48120" y="4114800"/>
            <a:ext cx="4946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File Gene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figuration File Generator is generated by the OCML interpreter from the middleware specific options mod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iddleware specif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nline hel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nline constraint chec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62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gration with the deployment too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Generation of the parser cod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tend OCML to capture application QoS requirements in a platform independent for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gration with the benchmarking tools to determine the right values for various platform-specific configuration paramet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1712880"/>
            <a:ext cx="1600200" cy="5145120"/>
            <a:chOff x="0" y="1712880"/>
            <a:chExt cx="1600200" cy="5145120"/>
          </a:xfrm>
        </p:grpSpPr>
        <p:sp>
          <p:nvSpPr>
            <p:cNvPr id="202" name=""/>
            <p:cNvSpPr/>
            <p:nvPr/>
          </p:nvSpPr>
          <p:spPr>
            <a:xfrm>
              <a:off x="0" y="1712880"/>
              <a:ext cx="1600200" cy="51451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aphicFrame>
          <p:nvGraphicFramePr>
            <p:cNvPr id="203" name=""/>
            <p:cNvGraphicFramePr/>
            <p:nvPr/>
          </p:nvGraphicFramePr>
          <p:xfrm>
            <a:off x="152280" y="2392200"/>
            <a:ext cx="1203480" cy="114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392200"/>
                      <a:ext cx="1203480" cy="114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152280" y="3803400"/>
            <a:ext cx="1290600" cy="123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3803400"/>
                      <a:ext cx="1290600" cy="12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152280" y="5410080"/>
            <a:ext cx="1290600" cy="12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5410080"/>
                      <a:ext cx="1290600" cy="12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306000" y="171288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priority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rcRect l="0" t="0" r="30638" b="0"/>
          <a:stretch/>
        </p:blipFill>
        <p:spPr>
          <a:xfrm>
            <a:off x="5029200" y="4114800"/>
            <a:ext cx="2276640" cy="2432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28800" y="4952880"/>
            <a:ext cx="3124080" cy="457200"/>
          </a:xfrm>
          <a:prstGeom prst="rightArrow">
            <a:avLst>
              <a:gd name="adj1" fmla="val 50000"/>
              <a:gd name="adj2" fmla="val 170827"/>
            </a:avLst>
          </a:prstGeom>
          <a:solidFill>
            <a:srgbClr val="800080"/>
          </a:solidFill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91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hallenge 2: Configuration Aspe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52280" y="838080"/>
            <a:ext cx="1600200" cy="5145120"/>
            <a:chOff x="152280" y="838080"/>
            <a:chExt cx="1600200" cy="5145120"/>
          </a:xfrm>
        </p:grpSpPr>
        <p:sp>
          <p:nvSpPr>
            <p:cNvPr id="214" name=""/>
            <p:cNvSpPr/>
            <p:nvPr/>
          </p:nvSpPr>
          <p:spPr>
            <a:xfrm>
              <a:off x="152280" y="838080"/>
              <a:ext cx="1600200" cy="51451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04560" y="1517400"/>
            <a:ext cx="1203480" cy="114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560" y="1517400"/>
                      <a:ext cx="1203480" cy="114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304560" y="2928600"/>
            <a:ext cx="1290600" cy="123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560" y="2928600"/>
                      <a:ext cx="1290600" cy="12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9" name=""/>
            <p:cNvGraphicFramePr/>
            <p:nvPr/>
          </p:nvGraphicFramePr>
          <p:xfrm>
            <a:off x="304560" y="4535280"/>
            <a:ext cx="1290600" cy="12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560" y="4535280"/>
                      <a:ext cx="1290600" cy="12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458280" y="83808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High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priority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981080" y="1182600"/>
            <a:ext cx="3463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spcBef>
                <a:spcPts val="1188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Extend OCML to capture application QoS requirements in a platform independent form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2935440"/>
            <a:ext cx="3124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spcBef>
                <a:spcPts val="1188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Design model transformers to synthesize platforms-specific configuration model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401920"/>
            <a:ext cx="304920" cy="568440"/>
          </a:xfrm>
          <a:prstGeom prst="downArrow">
            <a:avLst>
              <a:gd name="adj1" fmla="val 50000"/>
              <a:gd name="adj2" fmla="val 46606"/>
            </a:avLst>
          </a:prstGeom>
          <a:solidFill>
            <a:srgbClr val="800080"/>
          </a:solidFill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179244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800080"/>
          </a:solidFill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32400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00080"/>
          </a:solidFill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4687920"/>
            <a:ext cx="3276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spcBef>
                <a:spcPts val="1188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29"/>
                </a:solidFill>
                <a:latin typeface="Arial"/>
              </a:rPr>
              <a:t>Design tools that will determine the right values for various platform-specific configuration parameters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4195800"/>
            <a:ext cx="304920" cy="568440"/>
          </a:xfrm>
          <a:prstGeom prst="downArrow">
            <a:avLst>
              <a:gd name="adj1" fmla="val 50000"/>
              <a:gd name="adj2" fmla="val 46606"/>
            </a:avLst>
          </a:prstGeom>
          <a:solidFill>
            <a:srgbClr val="800080"/>
          </a:solidFill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52974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00080"/>
          </a:solidFill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5027760" y="954000"/>
            <a:ext cx="4116240" cy="464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14400" y="6080040"/>
            <a:ext cx="7391520" cy="703800"/>
          </a:xfrm>
          <a:prstGeom prst="rect">
            <a:avLst/>
          </a:prstGeom>
          <a:solidFill>
            <a:srgbClr val="dddddd"/>
          </a:solidFill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owever end-users have no way of knowing If the configuration maximizes the Q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3810240" cy="556272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del Benchmarking Su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est components in target configura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sing  a priori benchmarking data Components will be selected from the Component Repositor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odeling paradigms being developed to represent Benchmarking su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odeling paradigms being developed for synthesizing appropriate benchmarking test sui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7913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18288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eople involved in this effor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82880" indent="-18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vind Krishna, Diego Sevilla, Nanbor Wang, Bala, Aniruddha Gokhale &amp; Douglas C. Schmid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76320"/>
            <a:ext cx="4114800" cy="5638680"/>
          </a:xfrm>
          <a:prstGeom prst="rect">
            <a:avLst/>
          </a:prstGeom>
          <a:solidFill>
            <a:srgbClr val="ff99cc"/>
          </a:solidFill>
          <a:ln w="9360">
            <a:solidFill>
              <a:srgbClr val="29292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are CCM implement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ndo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IAO – Vanderbilt Univers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ICO-CCM – MICO ORB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Qedo – Runs a top M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cMG – Runs a top TA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metric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mpare CORBA with CCM to quantify overhea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mpare different CCM implementations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10058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Design of CCMPer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320" y="1600200"/>
            <a:ext cx="8991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185400" indent="-185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do we want to measur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85400" indent="-1854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Suitabilit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ow suitable is the CCM implementation for DRE applications in a particular domain, such as avionics, total ship computing, or telecom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85400" indent="-1854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ow good is the CCM implementation? For example, in the DRE domain, is the implementation predict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85400" indent="-1854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Correctnes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es the implementation correspond to the OMG specification portability and interoperability requirements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85400" indent="-185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85400" indent="-185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400" indent="-18540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400" indent="-18540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676520"/>
            <a:ext cx="80010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are the challenges we are facing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terogeneity in implementations</a:t>
            </a:r>
            <a:r>
              <a:rPr b="0" lang="en-US" sz="24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cc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 files, descriptor files are differ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ce in implementation quality</a:t>
            </a:r>
            <a:r>
              <a:rPr b="0" lang="en-US" sz="20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cc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quality of implementation issues  such as  data structures and algorithms u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ce in the domain of application</a:t>
            </a:r>
            <a:r>
              <a:rPr b="0" lang="en-US" sz="24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cc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se cases change e.g. CIAO tailored   towards DRE applications whereas MICO-CCM towards general purpose domai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terogeneity in software configuration options</a:t>
            </a:r>
            <a:r>
              <a:rPr b="0" lang="en-US" sz="24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cc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ifferent implementations provide  different knobs to fine tune performa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ware platforms vary</a:t>
            </a:r>
            <a:r>
              <a:rPr b="0" lang="en-US" sz="24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cc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ests should be run across same hardware test bed to ensure apples vs. apples comparis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6320" y="160020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are we resolving these challenges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73160" indent="-17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nchmark Generation Modeling Languag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73160" indent="-17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enerate the scaffolding code to run the benchmark and obtain the resul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682560" indent="-218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99"/>
                </a:solidFill>
                <a:latin typeface="Arial"/>
              </a:rPr>
              <a:t>.h and .cpp fi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682560" indent="-218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cc99"/>
                </a:solidFill>
                <a:latin typeface="Arial"/>
              </a:rPr>
              <a:t>.idl fi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682560" indent="-218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cc99"/>
                </a:solidFill>
                <a:latin typeface="Arial"/>
              </a:rPr>
              <a:t>.cidl files that describe the compon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6388200" y="-228600"/>
          <a:ext cx="26715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8200" y="-228600"/>
                    <a:ext cx="26715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76320" y="5257800"/>
          <a:ext cx="891540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257800"/>
                    <a:ext cx="89154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334120" y="4724280"/>
            <a:ext cx="1295280" cy="685800"/>
          </a:xfrm>
          <a:prstGeom prst="wedgeRoundRectCallout">
            <a:avLst>
              <a:gd name="adj1" fmla="val -122796"/>
              <a:gd name="adj2" fmla="val 1620"/>
              <a:gd name="adj3" fmla="val 16667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aradigm elem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320" y="3276720"/>
          <a:ext cx="8915400" cy="30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276720"/>
                    <a:ext cx="8915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7467480" y="4572000"/>
            <a:ext cx="1295640" cy="1066680"/>
          </a:xfrm>
          <a:prstGeom prst="wedgeRoundRectCallout">
            <a:avLst>
              <a:gd name="adj1" fmla="val -87134"/>
              <a:gd name="adj2" fmla="val -77379"/>
              <a:gd name="adj3" fmla="val 16667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ttributes pane: associat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ropert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6172200"/>
            <a:ext cx="1981440" cy="609480"/>
          </a:xfrm>
          <a:prstGeom prst="wedgeRoundRectCallout">
            <a:avLst>
              <a:gd name="adj1" fmla="val 33893"/>
              <a:gd name="adj2" fmla="val -102083"/>
              <a:gd name="adj3" fmla="val 16667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aradigm Elements -Palett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96080" y="2209680"/>
            <a:ext cx="990720" cy="762120"/>
          </a:xfrm>
          <a:prstGeom prst="wedgeRoundRectCallout">
            <a:avLst>
              <a:gd name="adj1" fmla="val -82370"/>
              <a:gd name="adj2" fmla="val -144166"/>
              <a:gd name="adj3" fmla="val 16667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odel brows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23800" y="542880"/>
          <a:ext cx="5419800" cy="159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800" y="542880"/>
                    <a:ext cx="54198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819520" y="2209680"/>
            <a:ext cx="1752480" cy="838440"/>
          </a:xfrm>
          <a:prstGeom prst="wedgeRoundRectCallout">
            <a:avLst>
              <a:gd name="adj1" fmla="val -63856"/>
              <a:gd name="adj2" fmla="val -170643"/>
              <a:gd name="adj3" fmla="val 16667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terac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5480" y="3412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adigm Pa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457200" y="3416400"/>
          <a:ext cx="518148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16400"/>
                    <a:ext cx="51814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581280" y="2413080"/>
            <a:ext cx="5486400" cy="17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-76320" y="0"/>
          <a:ext cx="5943600" cy="217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76320" y="0"/>
                    <a:ext cx="594360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80880" y="1981080"/>
            <a:ext cx="990720" cy="609840"/>
          </a:xfrm>
          <a:prstGeom prst="wedgeEllipseCallout">
            <a:avLst>
              <a:gd name="adj1" fmla="val -39421"/>
              <a:gd name="adj2" fmla="val -129425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Facet po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1371600"/>
            <a:ext cx="1371600" cy="838080"/>
          </a:xfrm>
          <a:prstGeom prst="wedgeEllipseCallout">
            <a:avLst>
              <a:gd name="adj1" fmla="val -27314"/>
              <a:gd name="adj2" fmla="val -114583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Facet export this interfa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23880" y="2514600"/>
          <a:ext cx="1541520" cy="100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2514600"/>
                    <a:ext cx="154152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4724280" y="4800600"/>
            <a:ext cx="1143000" cy="685800"/>
          </a:xfrm>
          <a:prstGeom prst="wedgeRoundRectCallout">
            <a:avLst>
              <a:gd name="adj1" fmla="val -99861"/>
              <a:gd name="adj2" fmla="val -31018"/>
              <a:gd name="adj3" fmla="val 16667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Operation attribu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1219320"/>
            <a:ext cx="1371600" cy="914400"/>
          </a:xfrm>
          <a:prstGeom prst="wedgeEllipseCallout">
            <a:avLst>
              <a:gd name="adj1" fmla="val -25578"/>
              <a:gd name="adj2" fmla="val 102777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Reference to the IDL interfa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2133720"/>
            <a:ext cx="1523880" cy="685800"/>
          </a:xfrm>
          <a:prstGeom prst="wedgeEllipseCallout">
            <a:avLst>
              <a:gd name="adj1" fmla="val -78750"/>
              <a:gd name="adj2" fmla="val 59490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ceptac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ware Application Dom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81680" y="2057400"/>
            <a:ext cx="1828800" cy="147312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1600200" cy="152424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410080" y="1447920"/>
            <a:ext cx="2021040" cy="81252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04920" y="1676520"/>
            <a:ext cx="350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arious Application Domai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arious QoS Require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91120" y="3505320"/>
            <a:ext cx="3565080" cy="3045960"/>
            <a:chOff x="4191120" y="3505320"/>
            <a:chExt cx="3565080" cy="3045960"/>
          </a:xfrm>
        </p:grpSpPr>
        <p:sp>
          <p:nvSpPr>
            <p:cNvPr id="109" name=""/>
            <p:cNvSpPr/>
            <p:nvPr/>
          </p:nvSpPr>
          <p:spPr>
            <a:xfrm>
              <a:off x="4191120" y="5121360"/>
              <a:ext cx="3565080" cy="1096920"/>
            </a:xfrm>
            <a:prstGeom prst="triangle">
              <a:avLst>
                <a:gd name="adj" fmla="val 50000"/>
              </a:avLst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191120" y="3689280"/>
              <a:ext cx="3565080" cy="1203480"/>
            </a:xfrm>
            <a:prstGeom prst="triangle">
              <a:avLst>
                <a:gd name="adj" fmla="val 50000"/>
              </a:avLst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75080" y="4863240"/>
              <a:ext cx="1159920" cy="335880"/>
            </a:xfrm>
            <a:prstGeom prst="rect">
              <a:avLst/>
            </a:prstGeom>
            <a:solidFill>
              <a:srgbClr val="336699"/>
            </a:solidFill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ddlewar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18760" y="4141800"/>
              <a:ext cx="1739880" cy="497520"/>
            </a:xfrm>
            <a:prstGeom prst="rect">
              <a:avLst/>
            </a:prstGeom>
            <a:solidFill>
              <a:srgbClr val="c9f2ff"/>
            </a:solidFill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Middlewar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Services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00520" y="3505320"/>
              <a:ext cx="2477520" cy="47880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DRE Applications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18760" y="5379840"/>
              <a:ext cx="1739880" cy="49752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ng Sys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amp; Protocols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0520" y="6072480"/>
              <a:ext cx="2477520" cy="478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Hardware &amp; 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Networks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85800" y="3581280"/>
            <a:ext cx="2743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pri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Jit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roughput, …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649520" y="2290680"/>
          <a:ext cx="467496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290680"/>
                    <a:ext cx="467496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3124080" y="3809880"/>
            <a:ext cx="1447920" cy="533520"/>
          </a:xfrm>
          <a:prstGeom prst="wedgeEllipseCallout">
            <a:avLst>
              <a:gd name="adj1" fmla="val -49125"/>
              <a:gd name="adj2" fmla="val -113986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Tes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oper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3276720"/>
            <a:ext cx="914400" cy="609480"/>
          </a:xfrm>
          <a:prstGeom prst="wedgeEllipseCallout">
            <a:avLst>
              <a:gd name="adj1" fmla="val -119791"/>
              <a:gd name="adj2" fmla="val 9634"/>
            </a:avLst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QoS Metric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98760" y="1062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8380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ssociating QoS metric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728720" y="1219320"/>
          <a:ext cx="6272280" cy="54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8720" y="1219320"/>
                    <a:ext cx="6272280" cy="54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816200" y="16668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tegration of OCML &amp; BGM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wnloading the Middleware &amp;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124000" cy="1531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743280" y="5562720"/>
            <a:ext cx="5400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  <a:ea typeface="宋体"/>
              </a:rPr>
              <a:t>http://www.dre.vanderbilt.edu/cosmi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114800"/>
            <a:ext cx="53337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  <a:ea typeface="宋体"/>
              </a:rPr>
              <a:t>Beta and Stable release can be accessed from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  <a:ea typeface="宋体"/>
              </a:rPr>
              <a:t>http://www.dre.vanderbilt.edu/Download.htm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2308320" cy="20289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1066680" y="5105520"/>
            <a:ext cx="2514600" cy="1346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781680" y="1905120"/>
            <a:ext cx="1913040" cy="2239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-4320" y="4876920"/>
            <a:ext cx="79941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OCML &amp; BGML are part of the CoSMIC MDM tool su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rge Configuration Sp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iddleware Develop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cumentation and capability synchroniz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valuation of specific configur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lication Develop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quires expertise on middlewa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creases accidental complex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ifferent middleware uses different method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666880" cy="11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62520" y="5105520"/>
            <a:ext cx="990360" cy="558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716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XML Property Fil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53341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XML Configuration Fil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698400" cy="1219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32448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CIAO provides ~500 configuration op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ing QoS Enabled Middle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280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arious strategies in CIAO can be configured at initialization ti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IAO ORB is configured with service configuration fi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524400" cy="312444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4495680" y="3048120"/>
            <a:ext cx="4647960" cy="3200040"/>
            <a:chOff x="4495680" y="3048120"/>
            <a:chExt cx="4647960" cy="320004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4495680" y="5962680"/>
              <a:ext cx="4647960" cy="28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"/>
            <p:cNvGrpSpPr/>
            <p:nvPr/>
          </p:nvGrpSpPr>
          <p:grpSpPr>
            <a:xfrm>
              <a:off x="4947120" y="3048120"/>
              <a:ext cx="3825720" cy="2757600"/>
              <a:chOff x="4947120" y="3048120"/>
              <a:chExt cx="3825720" cy="2757600"/>
            </a:xfrm>
          </p:grpSpPr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947120" y="3048120"/>
                <a:ext cx="3654360" cy="275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flipH="1" flipV="1">
                <a:off x="5209920" y="4138200"/>
                <a:ext cx="250920" cy="29592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5115600" y="4688280"/>
                <a:ext cx="250920" cy="29592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7128720" y="4812840"/>
                <a:ext cx="249120" cy="29340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7765920" y="4812840"/>
                <a:ext cx="249120" cy="29340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7406280" y="4517640"/>
                <a:ext cx="249120" cy="29592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8523720" y="4231080"/>
                <a:ext cx="249120" cy="29628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Based Solu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veloped a domain-specific modeling language for TAO/CIAO called </a:t>
            </a:r>
            <a:r>
              <a:rPr b="0" lang="en-US" sz="2000" spc="-1" strike="noStrike">
                <a:solidFill>
                  <a:srgbClr val="cccc99"/>
                </a:solidFill>
                <a:latin typeface="Arial"/>
              </a:rPr>
              <a:t>Options Configuration Modeling Language (OCML)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using G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ser provides a model of desired options &amp; their values e.g.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iddleware bus resour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currency &amp; connection management strateg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raint checker flags incompatible opt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12766" b="0"/>
          <a:stretch/>
        </p:blipFill>
        <p:spPr>
          <a:xfrm>
            <a:off x="4851360" y="1981080"/>
            <a:ext cx="37591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Based Solu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10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ynthesizes XML descriptors for middleware configur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enerates the documentation for the middleware configur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nline validation of the configur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12766" b="0"/>
          <a:stretch/>
        </p:blipFill>
        <p:spPr>
          <a:xfrm>
            <a:off x="4856040" y="1905120"/>
            <a:ext cx="375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ing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4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CML is used b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Middleware develope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design the Configuration Mod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Application Develope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nfigure the Middleware for a Specific Applic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CML metamodel is platform indepen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CML models are platform specif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67440" cy="3903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24360" y="2743200"/>
            <a:ext cx="129528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1828800"/>
            <a:ext cx="358128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3505320"/>
            <a:ext cx="3581280" cy="2133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1600200"/>
            <a:ext cx="1752840" cy="1295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248520" y="2743200"/>
            <a:ext cx="761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9292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Configuration Modeling Language (OCM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CML is used to defi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figuration op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endency constrai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4038480"/>
            <a:ext cx="1218960" cy="83844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4114800"/>
            <a:ext cx="13716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038480"/>
            <a:ext cx="144792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pendenc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809880"/>
            <a:ext cx="533520" cy="3812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5410080"/>
            <a:ext cx="2819520" cy="1219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pplication Specifi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iddleware Configu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87680" y="4267080"/>
            <a:ext cx="1905120" cy="137160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C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ML Configuration Option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689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ption Catego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ption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Boolean, numeric, alphanumeric, set, flag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crip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00200" y="3733920"/>
            <a:ext cx="7162920" cy="2819160"/>
            <a:chOff x="1600200" y="3733920"/>
            <a:chExt cx="7162920" cy="2819160"/>
          </a:xfrm>
        </p:grpSpPr>
        <p:sp>
          <p:nvSpPr>
            <p:cNvPr id="163" name=""/>
            <p:cNvSpPr/>
            <p:nvPr/>
          </p:nvSpPr>
          <p:spPr>
            <a:xfrm>
              <a:off x="1600200" y="3733920"/>
              <a:ext cx="7162920" cy="2819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Option Category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655360" y="4104720"/>
              <a:ext cx="5277600" cy="2298960"/>
              <a:chOff x="2655360" y="4104720"/>
              <a:chExt cx="5277600" cy="229896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671080" y="4104720"/>
                <a:ext cx="1356840" cy="1334880"/>
                <a:chOff x="5671080" y="4104720"/>
                <a:chExt cx="1356840" cy="1334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671080" y="4104720"/>
                  <a:ext cx="1356840" cy="13348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671080" y="4994640"/>
                  <a:ext cx="1356840" cy="0"/>
                </a:xfrm>
                <a:prstGeom prst="line">
                  <a:avLst/>
                </a:prstGeom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5671080" y="4325400"/>
                <a:ext cx="135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lphanumeric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71080" y="4994640"/>
                <a:ext cx="150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6576120" y="4698000"/>
                <a:ext cx="1356840" cy="1334880"/>
                <a:chOff x="6576120" y="4698000"/>
                <a:chExt cx="1356840" cy="1334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576120" y="4698000"/>
                  <a:ext cx="1356840" cy="13348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576120" y="5587920"/>
                  <a:ext cx="1356840" cy="0"/>
                </a:xfrm>
                <a:prstGeom prst="line">
                  <a:avLst/>
                </a:prstGeom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424920" y="4994640"/>
                <a:ext cx="13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01960" y="5663880"/>
                <a:ext cx="13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5294160" y="5068800"/>
                <a:ext cx="1432080" cy="1334880"/>
                <a:chOff x="5294160" y="5068800"/>
                <a:chExt cx="1432080" cy="1334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294160" y="5068800"/>
                  <a:ext cx="1432080" cy="13348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294160" y="5958720"/>
                  <a:ext cx="1432080" cy="0"/>
                </a:xfrm>
                <a:prstGeom prst="line">
                  <a:avLst/>
                </a:prstGeom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5295600" y="5291280"/>
                <a:ext cx="135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"/>
                  </a:rPr>
                  <a:t>Flag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95600" y="6033240"/>
                <a:ext cx="143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55360" y="4401000"/>
                <a:ext cx="1281600" cy="4449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92929"/>
                    </a:solidFill>
                    <a:latin typeface="Arial"/>
                  </a:rPr>
                  <a:t>Description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163040" y="4401000"/>
                <a:ext cx="1508040" cy="1334880"/>
                <a:chOff x="4163040" y="4401000"/>
                <a:chExt cx="1508040" cy="1334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4163040" y="4401000"/>
                  <a:ext cx="1357200" cy="1334880"/>
                  <a:chOff x="4163040" y="4401000"/>
                  <a:chExt cx="1357200" cy="1334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4163040" y="4401000"/>
                    <a:ext cx="1357200" cy="133488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163040" y="5290920"/>
                    <a:ext cx="1357200" cy="0"/>
                  </a:xfrm>
                  <a:prstGeom prst="line">
                    <a:avLst/>
                  </a:prstGeom>
                  <a:ln w="936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4163040" y="4624560"/>
                  <a:ext cx="13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Arial"/>
                    </a:rPr>
                    <a:t>Boolean</a:t>
                  </a:r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63040" y="5290920"/>
                  <a:ext cx="1508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Arial"/>
                    </a:rPr>
                    <a:t>Description</a:t>
                  </a:r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786120" y="4994640"/>
                <a:ext cx="1507680" cy="1334880"/>
                <a:chOff x="3786120" y="4994640"/>
                <a:chExt cx="1507680" cy="133488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3786120" y="4994640"/>
                  <a:ext cx="1356840" cy="1334880"/>
                  <a:chOff x="3786120" y="4994640"/>
                  <a:chExt cx="1356840" cy="13348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3786120" y="4994640"/>
                    <a:ext cx="1356840" cy="133488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786120" y="5884560"/>
                    <a:ext cx="1356840" cy="0"/>
                  </a:xfrm>
                  <a:prstGeom prst="line">
                    <a:avLst/>
                  </a:prstGeom>
                  <a:ln w="936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3786120" y="5218200"/>
                  <a:ext cx="1356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Arial"/>
                    </a:rPr>
                    <a:t>Numeric</a:t>
                  </a:r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786120" y="5884560"/>
                  <a:ext cx="1507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292929"/>
                      </a:solidFill>
                      <a:latin typeface="Arial"/>
                    </a:rPr>
                    <a:t>Description</a:t>
                  </a:r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7:29:02Z</dcterms:created>
  <dc:creator>Emre Turkay</dc:creator>
  <dc:description/>
  <dc:language>en-US</dc:language>
  <cp:lastModifiedBy>Arvind S. Krishna</cp:lastModifiedBy>
  <dcterms:modified xsi:type="dcterms:W3CDTF">2004-04-04T21:08:33Z</dcterms:modified>
  <cp:revision>43</cp:revision>
  <dc:subject/>
  <dc:title>Middleware Configuration with OCML</dc:title>
</cp:coreProperties>
</file>